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A8C-3C14-4DCA-B0A9-F186AB1D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7C9-7A87-4298-8941-9DA018E6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12EFE-0A32-4CE4-B09D-4D9DAD95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947DE-6460-43D5-9F6A-23AFBE26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C2A28-6958-46E8-B787-BB026D69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32BCD-58C1-4131-B683-F98BEBF2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E7DFC-B190-4F1A-97BD-96F470BE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1EF7D-81A2-49E1-9D50-EB9E5936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7F83F-5F06-4D46-9C42-F872DC18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4E383-B00D-4AC9-A53D-407D0D20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244A9-194E-485E-9EED-60B0A9F7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8DC6A-E194-4215-8D87-2567A090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3DD-5C56-4DB0-98C9-7D247DA1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0EA4E-94B6-4402-9E1E-F1E9B643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EA856-8400-4172-87D0-008DDDD1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79F9B-1E6E-4917-B151-17199AB0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C81BD-1189-46E6-A087-B9EA345F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D78E8-8C8B-4053-859C-05B241DC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F1DF7-A737-4E4B-974E-C41DBF48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8BE92-4478-4964-A8BC-8C7474A6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9766E-868A-4E98-9A26-75005BDE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95992-A2DE-4A1E-B290-0B120A88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95620-E1F2-4A4E-9871-42FA8F2E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E21-737F-4A08-AE9C-F61EC5CD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2FBEA-0718-489C-8AA7-F28A12A1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C3FEF-FBB0-49C5-BD0E-042E2042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E82B6-6224-418E-8BA7-D4554B28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D92F8-06EA-4BC2-BC1E-953F9FC8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4EE32-0823-44B8-B20B-64CA1528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25E8A-7ED4-4F4F-B8EF-4E9B52EA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BEFB6-1CF3-4D72-8E1C-51761342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4328E-EA8C-4CA0-B207-3EDE96EA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8B6EA-65F8-44D3-BF75-14B7A877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12EB2-620D-48B4-9D53-73784DC6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22FB-7E39-4D3F-838C-8E2BCFAF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69334-75F9-4F8C-9EB8-2DD1ED23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085BE-42FB-42F0-8CE3-88B2B83C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0BCFC-E9F6-4610-B3C3-4C61E5CA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68295-EF10-435F-BCE7-77589DDF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D2F55-1E9F-490E-A859-AB85D4BD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09A70-7720-4749-9268-4429DE40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97F9F-1E56-44CE-91BF-FE68A7AB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C5D9E-2455-48E8-8D2E-A4E7DAA4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EADA1-6164-46FE-A434-44BA7D81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85F72-8ED5-47BA-9E5E-CA7E3A51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E6E9-8553-43DB-BFE0-89FFEFB5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81135-061C-44EB-B2BF-06E4BAF4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3EE82-060D-4BE0-8C50-80403E29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2CE89-242F-42F8-BFA5-4C2F6209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F6E59-B88A-4054-8B42-D0D6A166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9B706-1904-449F-A9A2-27A53C17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7489A-AEC9-4D42-8419-BB0B99ED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188FC-A2B9-41DD-975A-4C40A204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E022B7-6221-43C6-A771-F7188669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84AFB4-9098-4827-B934-81F4F101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BF861-C00D-4FA3-BFD3-229F44C2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E735-11A7-4847-A51B-F22B3869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169079-387E-4BCE-A603-D1FB5711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E76ADF-674F-4829-8701-3005D5DA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20519-DBF4-458E-9958-60A987A4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7241A-7E07-4295-B943-6588205F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5AEA9-8C51-46E6-BEF7-4368D6E9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5B626-5BCC-407C-9F99-86A0D953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3008F-B144-4A55-84F8-F963B637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7C49E-7A29-4439-94B4-DC904058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056C55-865A-43FB-AD86-73EEFA0A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F0FF89-E75B-4EB0-BC4C-5B8A5EB3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33DC-1F0D-4E43-8664-B7D23E83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E208E6-4F57-4EEB-94C9-1014DDCE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BA46C0-0CD5-46E2-BFC1-770CEB9C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F728CC-4829-45A2-A153-EE7A1414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A3111-54C4-407D-B811-B21030E9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F91669-320E-4A1A-ABBA-C9354D65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4D64AF-6CED-4D4A-A6F3-E99E2DAE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1571E1-DA52-4A4B-A0FA-F04D32A5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5A5947-6DD0-4AA2-A9EA-1E9AA6AA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471E83-1FC5-4D2D-BCF4-02A3EF9C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D4BE03-6E25-439D-98D6-ECACFB3C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621A-43CB-49F5-975A-2015BF03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EB5DC6-BD07-40C7-AA32-59B0F38F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0FA8DF-9750-4598-AD66-F5AAD6EA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61548D-48B1-4807-851B-E1303937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363120-2A48-478F-BFD6-81D552D7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DE47F-2171-44DE-92CC-D6C2D7FB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EF7D54-2FFB-4672-BE98-AAA6EF93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3AFE9-FAA3-4F95-AAD6-D040B436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6B5913-877C-4E06-A1D0-B565F588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09389E-E96F-4D34-AAD3-5205F3C4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078806-94F3-4395-ABD7-41E552CF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8DC7-0DD8-4EC3-8BBF-5D874456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8E27A0-8164-4216-A9C2-4306ED8C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10EFC1-0A83-46FF-8474-FA815D50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E488E1-9AD8-4A7C-A39C-39F1A96C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DFAA6D-F7CF-4411-A8BB-54310945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35E53A-56F5-41EC-B183-A42D7F3B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26B516-95D0-413F-AC3D-A0FE2FB7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DB12A-95CB-4842-8A98-38B95506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16901D-9FF6-4075-8A73-12957E8E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238BF-61ED-41F3-9474-A3F3F121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0F843A-4651-4E11-98B6-DC091437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6920-29F6-498B-A424-FB5B0E9E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485233-07FD-4618-A749-84BBB5FB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4E674E-0650-4C8B-BF29-91BF7334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FA6D96-FF3C-45CA-831E-3EF247ED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1F4FCB-B819-4B30-BB28-4DAAB3B2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4C62FF-3C44-47E9-85CE-E05A990C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84E51F-3F21-45A2-885F-3682FAFC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948E2B-A987-421D-9F4C-288666C2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98177F-40FA-4901-8550-3ED7AFA5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AA6C4D-178E-412B-A7A3-606E2DB0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240116-EC4F-4912-95EF-7BDC19C6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4F60-20F6-43CB-8A51-7A38DC90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9E04-F552-4D53-BE27-E907F20D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55331D-1C0E-4E6D-8610-C3D2F0D4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70DACA-C404-4E6C-8AF6-AC9EFA44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D4E9DE-FEF3-487C-A5AD-2E93192C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F3049E-D651-4DB8-A5FF-475F0003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4A1BB3-E59A-4FC6-B577-12AF0032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DF5E2F-9B66-487E-8D53-963BBE84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1940B9-ABE1-4C5A-A515-D4753E8E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598970-7B5E-4E75-AF1E-0730B98B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059BE3-C5D2-4522-AEC9-AC27C60E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780F45-ECB8-4095-BEEF-2C090441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B814-311C-4786-8430-68BF24A5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D38287-1C2D-4B4B-8A5E-BAFAB642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53F4F9-BA88-4CB2-B085-1AD219F8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6B6FA9-7FCB-4D67-914C-620C815D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FCA358-232A-4F46-A13E-0CC56EAB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AB96BE-9A60-45D0-ACA3-018840FF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91DDC2-F604-4078-B19D-E215C2DF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1EB1F0-C774-460A-AA90-AA97CD19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D0393B-F8FE-473B-BD39-151B6FB4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DE707C-D82F-4A14-9C72-B20E1B4E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04018F-EAD6-443D-885E-990D57B0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C280-D952-4CD5-96C8-ABDBA170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FC142F-9ED8-4D81-AFA2-E944BDA8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DAE4AF-5499-4C68-8260-0F39AB2F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FD8242-8D9B-4A90-8097-55FCAA15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A9A126-FC9C-403C-8E19-FDEE3DB4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451751-F90E-44FC-84A7-62E786F4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886AC8-6271-4008-B0E6-F023CE48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ED1BDA-D50E-4467-A409-C8D3D223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11C371-5E2C-4BA7-B8A0-AE4E75F0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B6E781-2E3B-46A8-A32C-11E4E53C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63FF09-27E1-446A-9C35-96284DE7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12E3-57B8-4983-A1AC-6509FC04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490A00-75A2-4D5A-8FB0-C9C24059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FEF87B-1F78-45A1-96F1-FB5D68A1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CC422C-C2AC-4A77-ADB2-77D43B0D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8337AF-5EEE-4147-A4FB-7771ECA7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19C433-376B-432F-8AA2-EF9F9FB3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0267BF-5C14-4D66-AF7F-46E3ABDB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E3349D-44AC-4A27-8D8C-75337760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C6B800-652C-4D1A-BC68-BA171F22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B33203-8982-4229-BC77-AE7CC7CF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D5B3EC-5C73-4BFD-B05C-5C04AB83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0756-D85A-46CC-8EBD-4882B6DD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3968CD-89AE-4EB0-B0DE-0C83D447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505266-6FEA-46A6-9656-482CC00C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C879D5-797A-4427-AF46-1D61A893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8F84CA-87F5-40DE-84CB-09C40A25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B02777-70A5-41F8-9B3B-FCFC225F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403792-F939-4CA6-8597-8373ADF6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DDAE71-4D27-4258-8B55-67DCF2F4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ED1982-A9F9-4F31-B8C2-54035E0A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F94942-7A0F-4285-A335-B8CCF51D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61B6E4-8740-4C1B-911B-D3A311B8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3E6E9-F40B-4CC5-A82C-6475620E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BA2819-32C3-469F-96A1-5B834FCA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2E6D4A-70E1-4618-A9A2-57991E39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CCD9CE-0966-48E7-94BC-EE5D61E3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C8BD4-853D-4FDA-91BD-193743BB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12650-73F5-4525-AB30-B7E61B6F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76E66-CA37-4D4A-9398-ECF0BBEE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D269A-3676-44D0-8BB9-E41C1564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097-9A2B-446B-B6FF-1016D109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3820E-6C63-4C04-9079-6E65D436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E324A-0634-4E9B-A69E-57C59B6B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D76BA-976C-4BFA-A0CD-E46455F1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24C05-4CC9-4D37-BFA6-85290563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E45C-81A2-40FE-9F8F-CB11682F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2C46-CB75-45E4-8F4E-A2723BDC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4BB62-6073-4BA9-B067-C56F5D9C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9FA09-0259-412F-9501-DD3FC77A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E4E6D-3C39-474C-A5B9-63EF0521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B3724-4686-4220-9530-571DEA64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9FFF-1BD4-423A-AACC-4667F658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86178-7BD2-45B0-9715-C8E3BD81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6A3C3-F3A1-4D8E-95A5-D1626964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956A4-A625-4B83-8F48-134A5D6B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5646B-8E87-4891-A8EC-5CA550E5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BD3A1-C197-4647-AB11-984DF728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DD5AE-1669-4D6A-858E-0647FCBE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046FC-8785-489F-BF1D-7CA85BDE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707A4-72F5-467E-84F2-7DB75003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FE9E3-0ADD-4075-8EB3-D36EBCBC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6A9F2-AA92-4AF4-8126-21640A5A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E32C-F096-4F02-87D8-76FC17DB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01B62-972D-4A1F-9BEE-F7C8F98B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22AD6-796B-4BF6-B64E-690B552E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1EC0D-188F-4106-B674-8CD66060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3D5E9-16E1-4C26-B5B3-3BF6501B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693CC-5641-4645-8E8F-746B3101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94FF9-85B5-4455-9A6C-E88D3497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3C83A-B5E6-4A2F-A52D-E8CEF742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4885B-0E00-4696-8472-29DE2323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41A2D-D0C3-4AF8-B8D0-49FF89D1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62BFB-9894-4FBD-8553-47FE1169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F13-489A-4EEC-A06D-C69F1E66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68ECB-B85C-4303-A17A-908A16A1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7BD1B-0165-422A-BB48-55E35DDB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9A5B8-2134-4F84-AB4C-B727FB53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1BCAF-40EC-4B80-B2BF-C00E2CDC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943F2-0480-41F8-9F90-98257F86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7000C-AD34-445D-8D47-9B6E968A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0EC4D-48CD-4989-8E8F-0FA9344E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10233-5C52-487B-A65C-1DD8780B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0A84D-D7F8-45A0-8CD9-51F0387A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FEA76-E00A-48FD-89FD-CDAD7B4D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F208-2F02-45C3-9FD1-76B1F554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0A10C-6B23-4351-815C-55B221A0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F42D4-ECF3-4149-8B92-13BB8B14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ACEF2-19BD-44C7-B8B2-01F59D43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356D6-9086-431F-A50C-051C5947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136AD-E79D-4E86-B165-8DF44F33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15365-6479-4561-80B2-8B5939BE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14606-84E4-467C-B26C-6FE040A0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C3CD7-E6C8-4F3B-9DEC-B7E597EB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FA971-0143-476C-B7CB-5E6E9DE3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F5272-B620-4B8E-A380-05CF930D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287-8750-4868-9169-596A37C3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11DBC-C390-4999-A5C2-59909EB3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39C00-163E-4100-8402-A26C35E6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B166F-AC31-4814-A58C-7697A2E6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54837-F7AE-40EE-B97C-94EA1F5E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98D12-F169-4F4B-8BE6-3948112B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44C3B-00B0-4612-9EA7-D1655449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0CCF0-8EBF-421F-949B-220F898A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4D955-7FAB-409A-87E4-CF9B66AD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2DD40-0D82-4EE5-AFF3-3C0D1117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98422-07E2-4072-83F7-FE6A3B01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28B-E523-476F-871B-ED8091C7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FEAF7-F4A9-406C-B245-E25292A4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F33E2-FD69-47B1-AE86-54F1D683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D7E5E-36F1-468C-BC23-6C700DD2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59E0E-A123-4359-A163-3428CC35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750DE-B697-4849-9A0D-CE0D0A34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859A4-2FE9-4685-9D51-3140F98D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EB6EE-5E42-45D2-BF38-9103A9A8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8EAE9-EAF6-44D7-9091-0D7BEC1D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69ACD-36A6-4F78-A7D9-853C3110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F8EA6-72F3-44BA-BA6F-1D7A02BE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7450-AA6F-46B2-99D1-41DF5EF9E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655A-7455-4AE9-817A-AD35C92EF0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843F-76CD-4C6B-A341-D1C25EDD3A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D76E-6547-49DC-834F-12F936F8F6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16DD-3D57-4303-AD84-CC84DC24A4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E666-5F39-4184-94B8-5260B9E8F9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23C8-5A4C-4352-9BA3-FD3928DB46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2C14-8C8F-49A7-9C1A-700505E07C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82B6-5206-44A1-96AC-338C5F245C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3C39-7983-43B9-A913-E5F1A84FF8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B96E-2AA0-4587-B9BA-5777F31AFB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6277-49CF-4274-90FA-B80F41C5EA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E1E3-5BA8-4B0E-BE43-B20663DD73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D91A-A52A-4048-ABA2-F9AC66FBB7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BA9B-37D4-4086-8755-AB68E7D705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9883-1ED3-4143-86B4-3365C41F45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56AA-701C-4FD0-8FCE-03A972B691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CE3E-842C-48C6-8CDF-5BCC3353EC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C531-51F1-43A1-8592-46EA4A49AF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6557-9E51-4B35-A83E-9F94600689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5648-D30F-4116-8F9A-F9B91B0722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937A-1108-41F7-8966-3D49E812FD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630A-15A4-4D34-A641-D115BCB23F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FA70-F40D-40A5-8A0B-71BB389749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D009-90C5-4DCF-BD9E-8F4AF2C012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553D-2326-478B-885D-2898E46ECE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91F8-765A-4603-92C9-A8A792DCDC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65CD-D843-40D4-85A4-754344D6C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942D-61F5-4497-932A-DB3DF21931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A5D0-61CC-465A-94D7-3498D5D3DE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C2E8-DCE4-4CB2-A750-63E0F00D19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F313-615C-4E3E-B430-657104D84D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1C7D-193F-4116-AB3F-DFBB39F0DF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A0CF-6012-4BB3-B989-69207E5087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0163-A8E7-4C12-9245-97E4E21E1F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E6B4-3CD6-4AD0-BA68-A5FE9FCFF2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8253-8AF2-4C5D-8557-21738416E9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CA62-A5DE-415B-A6D4-255855D622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FEAE-1B03-4DA6-9C67-DC5E2A63D6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23E7-D4BB-498E-B084-CDFB9A0011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85840" y="3071880"/>
            <a:ext cx="885816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105760" cy="6072120"/>
          </a:xfrm>
          <a:prstGeom prst="rect">
            <a:avLst/>
          </a:prstGeom>
          <a:ln w="0">
            <a:noFill/>
          </a:ln>
        </p:spPr>
      </p:pic>
      <p:sp>
        <p:nvSpPr>
          <p:cNvPr id="1024" name="矩形 3"/>
          <p:cNvSpPr/>
          <p:nvPr/>
        </p:nvSpPr>
        <p:spPr>
          <a:xfrm>
            <a:off x="857160" y="24289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4"/>
          <p:cNvSpPr/>
          <p:nvPr/>
        </p:nvSpPr>
        <p:spPr>
          <a:xfrm>
            <a:off x="785880" y="4429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490680" y="1138320"/>
            <a:ext cx="8162640" cy="458136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857160" y="121428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928800" y="32148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471600" y="2328840"/>
            <a:ext cx="8200800" cy="2200320"/>
          </a:xfrm>
          <a:prstGeom prst="rect">
            <a:avLst/>
          </a:prstGeom>
          <a:ln w="0">
            <a:noFill/>
          </a:ln>
        </p:spPr>
      </p:pic>
      <p:sp>
        <p:nvSpPr>
          <p:cNvPr id="1030" name="矩形 2"/>
          <p:cNvSpPr/>
          <p:nvPr/>
        </p:nvSpPr>
        <p:spPr>
          <a:xfrm>
            <a:off x="857160" y="24289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485640" y="1433520"/>
            <a:ext cx="8172720" cy="3990960"/>
          </a:xfrm>
          <a:prstGeom prst="rect">
            <a:avLst/>
          </a:prstGeom>
          <a:ln w="0">
            <a:noFill/>
          </a:ln>
        </p:spPr>
      </p:pic>
      <p:sp>
        <p:nvSpPr>
          <p:cNvPr id="1032" name="矩形 2"/>
          <p:cNvSpPr/>
          <p:nvPr/>
        </p:nvSpPr>
        <p:spPr>
          <a:xfrm>
            <a:off x="1214280" y="3000240"/>
            <a:ext cx="13575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"/>
          <p:cNvSpPr/>
          <p:nvPr/>
        </p:nvSpPr>
        <p:spPr>
          <a:xfrm>
            <a:off x="3357720" y="3571920"/>
            <a:ext cx="11430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2500200" y="4500720"/>
            <a:ext cx="114300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8105760" cy="4003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2" descr=""/>
          <p:cNvPicPr/>
          <p:nvPr/>
        </p:nvPicPr>
        <p:blipFill>
          <a:blip r:embed="rId2"/>
          <a:stretch/>
        </p:blipFill>
        <p:spPr>
          <a:xfrm>
            <a:off x="785880" y="2571840"/>
            <a:ext cx="5505480" cy="1457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3"/>
          <a:stretch/>
        </p:blipFill>
        <p:spPr>
          <a:xfrm>
            <a:off x="6357960" y="2428920"/>
            <a:ext cx="2523960" cy="2257560"/>
          </a:xfrm>
          <a:prstGeom prst="rect">
            <a:avLst/>
          </a:prstGeom>
          <a:ln w="0">
            <a:noFill/>
          </a:ln>
        </p:spPr>
      </p:pic>
      <p:sp>
        <p:nvSpPr>
          <p:cNvPr id="1038" name="矩形 4"/>
          <p:cNvSpPr/>
          <p:nvPr/>
        </p:nvSpPr>
        <p:spPr>
          <a:xfrm>
            <a:off x="4286160" y="1928880"/>
            <a:ext cx="10717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5"/>
          <p:cNvSpPr/>
          <p:nvPr/>
        </p:nvSpPr>
        <p:spPr>
          <a:xfrm>
            <a:off x="1500120" y="357192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642960" y="714240"/>
            <a:ext cx="5400720" cy="4572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2"/>
          <a:stretch/>
        </p:blipFill>
        <p:spPr>
          <a:xfrm>
            <a:off x="6049800" y="739800"/>
            <a:ext cx="943200" cy="3808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3"/>
          <a:stretch/>
        </p:blipFill>
        <p:spPr>
          <a:xfrm>
            <a:off x="368280" y="1222200"/>
            <a:ext cx="8182080" cy="5635800"/>
          </a:xfrm>
          <a:prstGeom prst="rect">
            <a:avLst/>
          </a:prstGeom>
          <a:ln w="0">
            <a:noFill/>
          </a:ln>
        </p:spPr>
      </p:pic>
      <p:sp>
        <p:nvSpPr>
          <p:cNvPr id="1043" name="矩形 4"/>
          <p:cNvSpPr/>
          <p:nvPr/>
        </p:nvSpPr>
        <p:spPr>
          <a:xfrm>
            <a:off x="928800" y="214308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5"/>
          <p:cNvSpPr/>
          <p:nvPr/>
        </p:nvSpPr>
        <p:spPr>
          <a:xfrm>
            <a:off x="2071800" y="2143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6"/>
          <p:cNvSpPr/>
          <p:nvPr/>
        </p:nvSpPr>
        <p:spPr>
          <a:xfrm>
            <a:off x="2357280" y="3071880"/>
            <a:ext cx="500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7"/>
          <p:cNvSpPr/>
          <p:nvPr/>
        </p:nvSpPr>
        <p:spPr>
          <a:xfrm>
            <a:off x="3500280" y="3071880"/>
            <a:ext cx="1428840" cy="392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8"/>
          <p:cNvSpPr/>
          <p:nvPr/>
        </p:nvSpPr>
        <p:spPr>
          <a:xfrm>
            <a:off x="3071880" y="4500720"/>
            <a:ext cx="6429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9"/>
          <p:cNvSpPr/>
          <p:nvPr/>
        </p:nvSpPr>
        <p:spPr>
          <a:xfrm>
            <a:off x="4357800" y="4500720"/>
            <a:ext cx="1500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0"/>
          <p:cNvSpPr/>
          <p:nvPr/>
        </p:nvSpPr>
        <p:spPr>
          <a:xfrm>
            <a:off x="3857760" y="5929200"/>
            <a:ext cx="11430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11"/>
          <p:cNvSpPr/>
          <p:nvPr/>
        </p:nvSpPr>
        <p:spPr>
          <a:xfrm>
            <a:off x="6643800" y="5929200"/>
            <a:ext cx="10713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523800" y="733320"/>
            <a:ext cx="8096400" cy="5391360"/>
          </a:xfrm>
          <a:prstGeom prst="rect">
            <a:avLst/>
          </a:prstGeom>
          <a:ln w="0">
            <a:noFill/>
          </a:ln>
        </p:spPr>
      </p:pic>
      <p:sp>
        <p:nvSpPr>
          <p:cNvPr id="1052" name="矩形 2"/>
          <p:cNvSpPr/>
          <p:nvPr/>
        </p:nvSpPr>
        <p:spPr>
          <a:xfrm>
            <a:off x="4357800" y="4143240"/>
            <a:ext cx="10000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3"/>
          <p:cNvSpPr/>
          <p:nvPr/>
        </p:nvSpPr>
        <p:spPr>
          <a:xfrm>
            <a:off x="7072200" y="4643280"/>
            <a:ext cx="5716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4"/>
          <p:cNvSpPr/>
          <p:nvPr/>
        </p:nvSpPr>
        <p:spPr>
          <a:xfrm>
            <a:off x="7500960" y="514368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461880" y="1409760"/>
            <a:ext cx="8220240" cy="4038480"/>
          </a:xfrm>
          <a:prstGeom prst="rect">
            <a:avLst/>
          </a:prstGeom>
          <a:ln w="0">
            <a:noFill/>
          </a:ln>
        </p:spPr>
      </p:pic>
      <p:sp>
        <p:nvSpPr>
          <p:cNvPr id="1056" name="矩形 2"/>
          <p:cNvSpPr/>
          <p:nvPr/>
        </p:nvSpPr>
        <p:spPr>
          <a:xfrm>
            <a:off x="7286760" y="1357200"/>
            <a:ext cx="10000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3"/>
          <p:cNvSpPr/>
          <p:nvPr/>
        </p:nvSpPr>
        <p:spPr>
          <a:xfrm>
            <a:off x="1154160" y="2320920"/>
            <a:ext cx="1203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4"/>
          <p:cNvSpPr/>
          <p:nvPr/>
        </p:nvSpPr>
        <p:spPr>
          <a:xfrm>
            <a:off x="1214280" y="2857680"/>
            <a:ext cx="10004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5"/>
          <p:cNvSpPr/>
          <p:nvPr/>
        </p:nvSpPr>
        <p:spPr>
          <a:xfrm>
            <a:off x="1143000" y="3357720"/>
            <a:ext cx="1000080" cy="392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6"/>
          <p:cNvSpPr/>
          <p:nvPr/>
        </p:nvSpPr>
        <p:spPr>
          <a:xfrm>
            <a:off x="1000080" y="3857760"/>
            <a:ext cx="1500120" cy="39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7"/>
          <p:cNvSpPr/>
          <p:nvPr/>
        </p:nvSpPr>
        <p:spPr>
          <a:xfrm>
            <a:off x="2000160" y="4357800"/>
            <a:ext cx="1643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8"/>
          <p:cNvSpPr/>
          <p:nvPr/>
        </p:nvSpPr>
        <p:spPr>
          <a:xfrm>
            <a:off x="6786720" y="4357800"/>
            <a:ext cx="1428480" cy="396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03:0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